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892-B236-438C-A04E-25D82D52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120-DA72-48E1-9C0F-2422FB00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8A7-2440-4E8E-BE5E-2651FE3E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8CE-E1E6-4EF4-BB8F-DA8F3194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16C-8A70-4C65-8CB4-9C5479D7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F3D-BB53-4CD4-9769-AE45671E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286-69A0-4727-A081-9E82EBC1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314-58A5-4024-8E8D-4CF923E6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6F9-8335-406E-8EB2-9FF92CFE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C2F-4C93-4D22-B19F-C32D5751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819-E477-4CEE-BA19-D7D54D0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C48-84BB-4F11-926D-65307DF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990-4998-4570-AFF2-4E4AC94A3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Great Escap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lmed By: John Rebov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tors: Ronneil Jones Jr., Michael Mazz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1206360" y="963720"/>
            <a:ext cx="6724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1840" y="304920"/>
            <a:ext cx="90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bel and Curzon plan to break out of the prison, this break is a carefully planned break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0" y="304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50400" y="152280"/>
            <a:ext cx="90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As Isabel sneaks her way through the streets with Curzon in the wheelbarrow they must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stay out of sight  of the Red Coats for they will be beaten or killed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518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ckily the Red Coats were distracted by fireworks over the Wharf for just enough time for Isabel to slip by with Curzon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609480"/>
            <a:ext cx="94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bel Dragged Curzon to the edge of the Wharf. Isabel got in the row boat and pulled Curzon in Isabel picked up the oars and rowed that riv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0" y="304920"/>
            <a:ext cx="111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bel rowed until her hands blistered popped and did it again.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51120" y="380880"/>
            <a:ext cx="92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Isabel opened her eyes the light burnt them from the bright morning sun, the boat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d been ashore tangled in the bushes. Isabel woke up to see that she had set her self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. Curzon asked where they were. Just like the old man said they had found the River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rdan and had made it  they were free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42840" y="0"/>
            <a:ext cx="91868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07:50Z</dcterms:created>
  <dc:creator>VV</dc:creator>
  <dc:description/>
  <dc:language>en-US</dc:language>
  <cp:lastModifiedBy>Student</cp:lastModifiedBy>
  <dcterms:modified xsi:type="dcterms:W3CDTF">2011-05-03T13:35:56Z</dcterms:modified>
  <cp:revision>23</cp:revision>
  <dc:subject/>
  <dc:title>The Great Escape </dc:title>
</cp:coreProperties>
</file>